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DD73-45EE-4225-AC7F-03F9E9B6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DBDA-3A16-4C63-9FFB-731F7721A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0D3-211B-4FFD-947E-841E6821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A83-B345-49C7-B133-1CFB7F8E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6A4-EA71-4E1B-BB29-0A5ECCF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093-F7D0-43FE-8B3A-C52D38F4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1A6-E9FF-482F-8FA2-59115902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7A1-FE29-48BF-89B1-095406E1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1EE-FEFD-423F-B866-F643D7B2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1AB-9AAE-40BF-98BC-60B68679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953-4CFC-4B1A-9D26-447F69C3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DB0-2C0B-4C01-A262-C3B0B7D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DA4-9C3B-4B99-8A87-C0AA443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96A-627D-405E-B9F1-72BE4E5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551-FAC2-461B-84B1-D02DE3827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9:55Z</dcterms:modified>
  <cp:revision>104</cp:revision>
  <dc:subject/>
  <dc:title>Profile</dc:title>
</cp:coreProperties>
</file>